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48E-BC1B-451C-B977-AC4C91B6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8E5-A472-4BC3-BB1D-FF3214C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7E9-F469-4CEF-92C5-13D1375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C8D-499D-4CCE-A60B-539EA067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CA8-D691-4F74-AB88-4FAEE8D6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641-46E3-4553-AFB1-6C337FD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065-622C-4456-B598-12619D7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3FD-C680-426D-8057-6D33AFA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6AA-684E-4F7C-9D89-85B74EF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DEB-BFD4-480E-AEA1-D792C00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582-6DF9-41AF-BE1D-6505276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B1E-C170-4451-B2E4-FC907BB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57C-2B8A-4156-B8BB-CC0B1CBC8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lasstools.net/my/dustbin78792types_of_geography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" TargetMode="External"/><Relationship Id="rId2" Type="http://schemas.openxmlformats.org/officeDocument/2006/relationships/hyperlink" Target="http://ysgol-rhyngrwyd.wikispaces.com/" TargetMode="External"/><Relationship Id="rId3" Type="http://schemas.openxmlformats.org/officeDocument/2006/relationships/hyperlink" Target="http://lindym.wordpress.com/" TargetMode="External"/><Relationship Id="rId4" Type="http://schemas.openxmlformats.org/officeDocument/2006/relationships/hyperlink" Target="http://lindym.wordpress.com/" TargetMode="External"/><Relationship Id="rId5" Type="http://schemas.openxmlformats.org/officeDocument/2006/relationships/hyperlink" Target="http://lindym.wordpress.com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here to do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2137" t="39777" r="66049" b="37369"/>
          <a:stretch/>
        </p:blipFill>
        <p:spPr>
          <a:xfrm>
            <a:off x="6659640" y="2349360"/>
            <a:ext cx="154440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35640" y="333360"/>
            <a:ext cx="3527280" cy="1836360"/>
          </a:xfrm>
          <a:prstGeom prst="cloudCallout">
            <a:avLst>
              <a:gd name="adj1" fmla="val 4134"/>
              <a:gd name="adj2" fmla="val 65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at good an impression, but close-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BA5-1E67-4AF0-A2DD-D0F4A797C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PHYSICAL</a:t>
            </a:r>
            <a:r>
              <a:rPr b="1" lang="en-GB" sz="3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agine a world without hum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ould it be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as many thing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would still be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270-A630-4336-8931-2FC13E283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PHYSIC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orld without humans would still have life, it would still change shape, natural forces would still work, lik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canoes, earthquakes, tsunamis, storms, fl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vers, oceans,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il, water,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, animals, veg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350-EA72-491D-B6BC-8A5A1762C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A WORLD WITHOUT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thespacereview.com/archive/657a.jpg"/>
          <p:cNvPicPr/>
          <p:nvPr/>
        </p:nvPicPr>
        <p:blipFill>
          <a:blip r:embed="rId1"/>
          <a:stretch/>
        </p:blipFill>
        <p:spPr>
          <a:xfrm>
            <a:off x="2890800" y="1274760"/>
            <a:ext cx="3252960" cy="215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ages.livescience.com/images/050531_colima_volcano_04.jpg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surfersvillage.com/gal/pictures/StormCloud3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73F-C5CE-4539-943A-AD0EAEC80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</a:t>
            </a:r>
            <a:r>
              <a:rPr b="1" lang="en-GB" sz="32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an enormous effect on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our main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n you think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187-E70A-421F-92D2-B733348036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ur main activiti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lements and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typ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2D7-8E15-4F41-8070-000BEB9B46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crea.co.uk/images/fcc/tractor.jpg"/>
          <p:cNvPicPr/>
          <p:nvPr/>
        </p:nvPicPr>
        <p:blipFill>
          <a:blip r:embed="rId1"/>
          <a:srcRect l="0" t="13705" r="0" b="10877"/>
          <a:stretch/>
        </p:blipFill>
        <p:spPr>
          <a:xfrm>
            <a:off x="2268360" y="4221000"/>
            <a:ext cx="298152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groups.csail.mit.edu/medg/people/chris/taiwan-traffic.jpg"/>
          <p:cNvPicPr/>
          <p:nvPr/>
        </p:nvPicPr>
        <p:blipFill>
          <a:blip r:embed="rId2"/>
          <a:stretch/>
        </p:blipFill>
        <p:spPr>
          <a:xfrm>
            <a:off x="6227640" y="378936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tribuneindia.com/2005/specials/tribune_125/electric%20energy.jpg"/>
          <p:cNvPicPr/>
          <p:nvPr/>
        </p:nvPicPr>
        <p:blipFill>
          <a:blip r:embed="rId3"/>
          <a:stretch/>
        </p:blipFill>
        <p:spPr>
          <a:xfrm>
            <a:off x="179280" y="83664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www.webbaviation.co.uk/industrial/lancun19.jpg"/>
          <p:cNvPicPr/>
          <p:nvPr/>
        </p:nvPicPr>
        <p:blipFill>
          <a:blip r:embed="rId4"/>
          <a:stretch/>
        </p:blipFill>
        <p:spPr>
          <a:xfrm>
            <a:off x="5076720" y="765000"/>
            <a:ext cx="288144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1CE-ED09-4EF4-9EA6-6A676003B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a precious, delicate place – all activities have an effect on the environment in good ways and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can you think of for 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231-DCA5-403B-B9AD-0F8EEE1C3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ere are some ways in which humans affect the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ollution of power stations, cars, household rubbish, chemicals in the ground and water, sewage into the sea, waste, intensive (crowded) farming, over hunting, poaching, global warming,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or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conservation, animal welfare, walk, bike, recycling, reducing, re-using,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ore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FAC-514D-4412-8ABF-E95792710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nibweb.co.uk/Jen%20Gr2.jpg"/>
          <p:cNvPicPr/>
          <p:nvPr/>
        </p:nvPicPr>
        <p:blipFill>
          <a:blip r:embed="rId1"/>
          <a:stretch/>
        </p:blipFill>
        <p:spPr>
          <a:xfrm>
            <a:off x="6084720" y="1700280"/>
            <a:ext cx="2872080" cy="32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epa.gov/espp/coloring/inback72.jpg"/>
          <p:cNvPicPr/>
          <p:nvPr/>
        </p:nvPicPr>
        <p:blipFill>
          <a:blip r:embed="rId2"/>
          <a:stretch/>
        </p:blipFill>
        <p:spPr>
          <a:xfrm>
            <a:off x="250920" y="2852640"/>
            <a:ext cx="2881080" cy="36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lubs.ntu.edu.sg/earthlink/images/Past/air01.jpg"/>
          <p:cNvPicPr/>
          <p:nvPr/>
        </p:nvPicPr>
        <p:blipFill>
          <a:blip r:embed="rId3"/>
          <a:stretch/>
        </p:blipFill>
        <p:spPr>
          <a:xfrm>
            <a:off x="4859280" y="5013360"/>
            <a:ext cx="2481480" cy="16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ecoenquirer.com/global-warming-porn.jpg"/>
          <p:cNvPicPr/>
          <p:nvPr/>
        </p:nvPicPr>
        <p:blipFill>
          <a:blip r:embed="rId4"/>
          <a:stretch/>
        </p:blipFill>
        <p:spPr>
          <a:xfrm>
            <a:off x="1332000" y="1125360"/>
            <a:ext cx="2857320" cy="16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exeter.gov.uk/media/image/l/5/Waste_Delivery.jpg"/>
          <p:cNvPicPr/>
          <p:nvPr/>
        </p:nvPicPr>
        <p:blipFill>
          <a:blip r:embed="rId5"/>
          <a:stretch/>
        </p:blipFill>
        <p:spPr>
          <a:xfrm>
            <a:off x="3419640" y="3068640"/>
            <a:ext cx="2500200" cy="168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F62-042B-4A78-AD20-DCBF96EEB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follow this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tools.net/my/dustbin78792types_of_geography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n the wiki if you want to look at it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099-742F-44B1-BD12-A1B38266E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get an email the day before, telling what you need to do. It will usually contain a classwork sheet to print off for th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Point and the homework will be in 2 places – in the school library and also in our wiki 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sgol-rhyngrwyd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is due in by 5pm on Friday. It is best to put it in the homework folder. But sometimes, if there are a lot of pictures in it, it will not up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 need to email it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need any extra help or you need an extension, just let me know and I am sure we can sort someth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xpect to be nagged if it is late and you have not let m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C0E-1384-4655-9E54-59D9DE602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Black"/>
              </a:rPr>
              <a:t>How you use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lready use Geography without knowing it. Here are some he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ting 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about physical geography, human geography and environmental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use Geography for these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757-8D66-4EA4-8866-ADD2B0A2F6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In Geography we 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pla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d it/will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ing what?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ing aff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we try to answer them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94D-3554-4913-B058-5619908877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news.bbc.co.uk/nol/shared/bsp/hi/americas/07/miss_bridge/img/min_bridge.gif"/>
          <p:cNvPicPr/>
          <p:nvPr/>
        </p:nvPicPr>
        <p:blipFill>
          <a:blip r:embed="rId1"/>
          <a:stretch/>
        </p:blipFill>
        <p:spPr>
          <a:xfrm>
            <a:off x="4140360" y="-27000"/>
            <a:ext cx="50004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oats and divers rescued the injured from the water, and looked for more survivors."/>
          <p:cNvPicPr/>
          <p:nvPr/>
        </p:nvPicPr>
        <p:blipFill>
          <a:blip r:embed="rId2"/>
          <a:stretch/>
        </p:blipFill>
        <p:spPr>
          <a:xfrm>
            <a:off x="1285920" y="2000160"/>
            <a:ext cx="2873160" cy="20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ection of collapsed bridge on Mississippi river at Minneapolis"/>
          <p:cNvPicPr/>
          <p:nvPr/>
        </p:nvPicPr>
        <p:blipFill>
          <a:blip r:embed="rId3"/>
          <a:stretch/>
        </p:blipFill>
        <p:spPr>
          <a:xfrm>
            <a:off x="1332000" y="3716280"/>
            <a:ext cx="2857320" cy="278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Collapsed bridge on Mississippi river at Minneapolis"/>
          <p:cNvPicPr/>
          <p:nvPr/>
        </p:nvPicPr>
        <p:blipFill>
          <a:blip r:embed="rId4"/>
          <a:stretch/>
        </p:blipFill>
        <p:spPr>
          <a:xfrm>
            <a:off x="1270080" y="0"/>
            <a:ext cx="287316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034-7E21-436E-A18D-C76D075147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Villagers in Sirajganj district"/>
          <p:cNvPicPr/>
          <p:nvPr/>
        </p:nvPicPr>
        <p:blipFill>
          <a:blip r:embed="rId1"/>
          <a:stretch/>
        </p:blipFill>
        <p:spPr>
          <a:xfrm>
            <a:off x="6516720" y="3141720"/>
            <a:ext cx="262728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oman on a boat made of banana leaves"/>
          <p:cNvPicPr/>
          <p:nvPr/>
        </p:nvPicPr>
        <p:blipFill>
          <a:blip r:embed="rId2"/>
          <a:stretch/>
        </p:blipFill>
        <p:spPr>
          <a:xfrm>
            <a:off x="2071800" y="2857680"/>
            <a:ext cx="4732200" cy="40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Boat in inundated Kaziranga National Park in Assam, Northeast India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400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ycle rickshaw in flooded street in Dhaka"/>
          <p:cNvPicPr/>
          <p:nvPr/>
        </p:nvPicPr>
        <p:blipFill>
          <a:blip r:embed="rId4"/>
          <a:stretch/>
        </p:blipFill>
        <p:spPr>
          <a:xfrm>
            <a:off x="2071800" y="0"/>
            <a:ext cx="2357280" cy="32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D79-08AD-4E16-AE5A-FA2C1614BD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independent.co.uk/multimedia/archive/00253/frontpage040807_253024a.jpg"/>
          <p:cNvPicPr/>
          <p:nvPr/>
        </p:nvPicPr>
        <p:blipFill>
          <a:blip r:embed="rId1"/>
          <a:stretch/>
        </p:blipFill>
        <p:spPr>
          <a:xfrm>
            <a:off x="2143080" y="0"/>
            <a:ext cx="5288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DC8-F280-489B-8708-7181FEAB97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 your worksh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here you nee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2C8-1A55-44D7-BBB8-A49C30CEF9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9784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andud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ame of the town shown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describe the location of Llandud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843520" y="260280"/>
            <a:ext cx="3121200" cy="4802400"/>
            <a:chOff x="5843520" y="260280"/>
            <a:chExt cx="3121200" cy="4802400"/>
          </a:xfrm>
        </p:grpSpPr>
        <p:pic>
          <p:nvPicPr>
            <p:cNvPr id="110" name="uk" descr=""/>
            <p:cNvPicPr/>
            <p:nvPr/>
          </p:nvPicPr>
          <p:blipFill>
            <a:blip r:embed="rId1"/>
            <a:stretch/>
          </p:blipFill>
          <p:spPr>
            <a:xfrm>
              <a:off x="5843520" y="260280"/>
              <a:ext cx="312120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444440" y="33465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68360" y="3573360"/>
            <a:ext cx="5256000" cy="295128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Limited knowledge of U.K. geography. Limited use of geographical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B: Shows a sound knowledge of U.K. geography. Use of geographical language.</a:t>
            </a:r>
            <a:r>
              <a:rPr b="0" lang="en-US" sz="3200" spc="-1" strike="noStrike">
                <a:solidFill>
                  <a:srgbClr val="0060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E7A-EA3B-4480-9D5B-95C7BBD0B0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2 pictures of Llandud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479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any geographical questions can you think of? [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ere ?What ? When ? Why ? Who ? How ?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838080"/>
            <a:ext cx="540072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0920" y="2725560"/>
            <a:ext cx="5473800" cy="199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5805360"/>
            <a:ext cx="8229600" cy="79236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Can think of 2 or 3 questions; B: More than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FC8-4D59-428A-9ABA-653649E801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2 pictures of Llandud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hysical features could you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[ A world without human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uman features could you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[ What is the evidence that man is here?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768240"/>
            <a:ext cx="538776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2679840"/>
            <a:ext cx="5400720" cy="197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56360" y="836640"/>
            <a:ext cx="2541600" cy="252108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Can think of 1 or 2 featu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B: More than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CDA-1D9A-467D-AE3A-0D0C7BD73E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sgol-rhyngrwyd.wikispaces.co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ll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sgol Rhyngrwyd KS3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ll put copies of all the documents w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ere will be other things in the wiki too – links to quizzes and games – links to interesting stuff for you to look 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lso a blog at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dym.wordpress.co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Coach House Geography – the front page is a regular blog, but there is a Year 7/8 page for stuff that only you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E9A-30E4-406C-8354-2D8540FDC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will be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ill be divided up into 7 units and each year group will develop these unit more each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1: Intro (very short): Introduction and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2: Environmental conditions: Weather, climate and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3: The Human Situation: Settlement, population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4: Changing Earth: About what the earth is made of, volcanoes, earth quakes and how water sculpts the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5: Working World: About the jobs people do, International companies, aid and Fair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6: What are we doing to our World? The rain forests, climate change, energ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7: Is it sustainable? A chance to look at the current news to see what is changing and what needs to change, linking to what has been leant over the year – maybe revise a litt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349-00D5-424D-A4D9-E267C402D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for the next 2 weeks, we will be looking at Uni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esson 1: What is geograp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esson 2: Where in the world i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C93-D3CF-4072-BF99-B049A8D253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http://edunet.iow.gov.uk/curriculum/post16%5Cgeography/images/Geography00.png"/>
          <p:cNvPicPr/>
          <p:nvPr/>
        </p:nvPicPr>
        <p:blipFill>
          <a:blip r:embed="rId1"/>
          <a:stretch/>
        </p:blipFill>
        <p:spPr>
          <a:xfrm>
            <a:off x="108000" y="981000"/>
            <a:ext cx="8785080" cy="5429160"/>
          </a:xfrm>
          <a:prstGeom prst="rect">
            <a:avLst/>
          </a:prstGeom>
          <a:ln w="0">
            <a:noFill/>
          </a:ln>
        </p:spPr>
      </p:pic>
      <p:pic>
        <p:nvPicPr>
          <p:cNvPr id="54" name="Group 11" descr=""/>
          <p:cNvPicPr/>
          <p:nvPr/>
        </p:nvPicPr>
        <p:blipFill>
          <a:blip r:embed="rId2"/>
          <a:stretch/>
        </p:blipFill>
        <p:spPr>
          <a:xfrm>
            <a:off x="103320" y="115920"/>
            <a:ext cx="8864640" cy="279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83C-6B24-434B-B3F8-99C26F808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 Black"/>
              </a:rPr>
              <a:t>What is Geograp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WORD type 3 things that you think Geography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your partner use the private text to shar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which are the 3 bes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X and Y: Our 3 ideas are …(you can paste from your private text your 3 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8A-79AD-48C2-A0BD-DDBC5301D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ography is the study of the Earth’s landscapes, peoples, places and environments. It is, quite simply, about the world in which we liv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A6B-7AAE-4286-9A5C-3DC46F184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There are 3 Types of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Diagram 5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94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F69-E561-4D0A-AF5E-13D53794A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4:27:13Z</dcterms:created>
  <dc:creator>Lindy</dc:creator>
  <dc:description/>
  <dc:language>en-US</dc:language>
  <cp:lastModifiedBy>Lindy</cp:lastModifiedBy>
  <dcterms:modified xsi:type="dcterms:W3CDTF">2008-08-12T23:09:41Z</dcterms:modified>
  <cp:revision>8</cp:revision>
  <dc:subject/>
  <dc:title>Slide 1</dc:title>
</cp:coreProperties>
</file>